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BB88F-4262-4BEF-A50F-0833B7A4E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5AE68-5AB8-4933-BDD7-246247EEB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EC39D-4BCE-48E2-920E-F3E29B63C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899B1-73F4-411F-824C-5F215A983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0BB9F-6942-4822-B5E2-1205207FB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078C9-55E4-4942-8C42-A51D52F69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DDBE8-6E17-43AE-96A5-94BA149D7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42908-B169-4BC3-894A-88499982A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B0894-0938-4E99-96EE-40DC8DCE2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4AE1C-E23A-44F6-89B3-962C7DC0E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04426-D445-44E6-BC9D-374068DF7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B952F-0E6A-41C8-842E-06D950142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192A4-DB74-4AEA-9384-3A0A3EEB852A}" type="datetime5">
              <a:rPr b="0" lang="en-US" sz="1400" spc="-1" strike="noStrike">
                <a:solidFill>
                  <a:srgbClr val="000000"/>
                </a:solidFill>
                <a:latin typeface="Arial"/>
              </a:rPr>
              <a:t>Jul 29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ffcc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&lt;footer&gt;</a:t>
            </a: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Physics 1 (Garcia) SJS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00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015DA-F9E3-4927-902B-F91975FE9F7B}" type="slidenum">
              <a:rPr b="0" lang="en-US" sz="1400" spc="-1" strike="noStrike">
                <a:solidFill>
                  <a:srgbClr val="cc00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6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8.jpeg"/><Relationship Id="rId4" Type="http://schemas.openxmlformats.org/officeDocument/2006/relationships/image" Target="../media/image18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99"/>
                </a:solidFill>
                <a:latin typeface="Arial"/>
              </a:rPr>
              <a:t>Chapter 6</a:t>
            </a:r>
            <a:br>
              <a:rPr sz="6000"/>
            </a:br>
            <a:r>
              <a:rPr b="0" lang="en-US" sz="6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006600"/>
                </a:solidFill>
                <a:latin typeface="Arial"/>
              </a:rPr>
              <a:t>Momentum </a:t>
            </a:r>
            <a:endParaRPr b="0" lang="en-US" sz="60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333399"/>
                </a:solidFill>
                <a:latin typeface="Arial"/>
              </a:rPr>
              <a:t>Demo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: Egg Throw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216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row a raw egg as fast as possible at a sheet that’s held loosely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rcRect l="0" t="0" r="23150" b="23815"/>
          <a:stretch/>
        </p:blipFill>
        <p:spPr>
          <a:xfrm>
            <a:off x="4559400" y="2139840"/>
            <a:ext cx="3467160" cy="30085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6184800" y="4229280"/>
            <a:ext cx="27936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283360" y="2984400"/>
            <a:ext cx="419040" cy="21600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51480" y="3052800"/>
            <a:ext cx="482400" cy="2286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981760" y="2590920"/>
            <a:ext cx="977760" cy="1117440"/>
          </a:xfrm>
          <a:prstGeom prst="ellipse">
            <a:avLst/>
          </a:prstGeom>
          <a:solidFill>
            <a:srgbClr val="00ffcc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215040" y="2836800"/>
            <a:ext cx="507960" cy="596880"/>
          </a:xfrm>
          <a:prstGeom prst="ellipse">
            <a:avLst/>
          </a:prstGeom>
          <a:solidFill>
            <a:srgbClr val="00ffcc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372360" y="2994120"/>
            <a:ext cx="177840" cy="279360"/>
          </a:xfrm>
          <a:prstGeom prst="ellipse">
            <a:avLst/>
          </a:prstGeom>
          <a:solidFill>
            <a:srgbClr val="0000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4863600" y="3086280"/>
            <a:ext cx="368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4957560" y="3192480"/>
            <a:ext cx="368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4970160" y="2989440"/>
            <a:ext cx="368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472360" y="20048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99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94760" y="20988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99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905360" y="36990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99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404040" y="43466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99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875280" y="5425920"/>
            <a:ext cx="153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99"/>
                </a:solidFill>
                <a:latin typeface="Arial"/>
              </a:rPr>
              <a:t>X </a:t>
            </a:r>
            <a:r>
              <a:rPr b="0" lang="en-US" sz="1800" spc="-1" strike="noStrike">
                <a:solidFill>
                  <a:srgbClr val="cc0099"/>
                </a:solidFill>
                <a:latin typeface="Arial"/>
              </a:rPr>
              <a:t>(Hold her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Explan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18680" y="1320480"/>
            <a:ext cx="504180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row egg at sheet or wall with same speed. Which case h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eater change of velocit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ame in both c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eater change of momentu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ame in both c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rgest impulse on the eg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ame in both c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rgest time of impac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hrow at the she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rgest force on the eg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hrow at the wa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5334120" y="1562040"/>
            <a:ext cx="3308400" cy="4691160"/>
          </a:xfrm>
          <a:prstGeom prst="rect">
            <a:avLst/>
          </a:prstGeom>
          <a:ln w="0">
            <a:noFill/>
          </a:ln>
        </p:spPr>
      </p:pic>
      <p:grpSp>
        <p:nvGrpSpPr>
          <p:cNvPr id="82" name=""/>
          <p:cNvGrpSpPr/>
          <p:nvPr/>
        </p:nvGrpSpPr>
        <p:grpSpPr>
          <a:xfrm>
            <a:off x="7228440" y="2957400"/>
            <a:ext cx="1439640" cy="2722680"/>
            <a:chOff x="7228440" y="2957400"/>
            <a:chExt cx="1439640" cy="2722680"/>
          </a:xfrm>
        </p:grpSpPr>
        <p:sp>
          <p:nvSpPr>
            <p:cNvPr id="83" name=""/>
            <p:cNvSpPr/>
            <p:nvPr/>
          </p:nvSpPr>
          <p:spPr>
            <a:xfrm>
              <a:off x="7228440" y="2957400"/>
              <a:ext cx="1439640" cy="368280"/>
            </a:xfrm>
            <a:prstGeom prst="rect">
              <a:avLst/>
            </a:prstGeom>
            <a:solidFill>
              <a:srgbClr val="ffffff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99"/>
                  </a:solidFill>
                  <a:latin typeface="Arial"/>
                </a:rPr>
                <a:t>LONG 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356240" y="5311800"/>
              <a:ext cx="1183680" cy="368280"/>
            </a:xfrm>
            <a:prstGeom prst="rect">
              <a:avLst/>
            </a:prstGeom>
            <a:solidFill>
              <a:srgbClr val="ffffff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short 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"/>
          <p:cNvGrpSpPr/>
          <p:nvPr/>
        </p:nvGrpSpPr>
        <p:grpSpPr>
          <a:xfrm>
            <a:off x="7039080" y="3292560"/>
            <a:ext cx="1819080" cy="2722320"/>
            <a:chOff x="7039080" y="3292560"/>
            <a:chExt cx="1819080" cy="2722320"/>
          </a:xfrm>
        </p:grpSpPr>
        <p:sp>
          <p:nvSpPr>
            <p:cNvPr id="86" name=""/>
            <p:cNvSpPr/>
            <p:nvPr/>
          </p:nvSpPr>
          <p:spPr>
            <a:xfrm>
              <a:off x="7306560" y="3292560"/>
              <a:ext cx="1284120" cy="368280"/>
            </a:xfrm>
            <a:prstGeom prst="rect">
              <a:avLst/>
            </a:prstGeom>
            <a:solidFill>
              <a:srgbClr val="ffffff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99"/>
                  </a:solidFill>
                  <a:latin typeface="Arial"/>
                </a:rPr>
                <a:t>small for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039080" y="5646600"/>
              <a:ext cx="1819080" cy="368280"/>
            </a:xfrm>
            <a:prstGeom prst="rect">
              <a:avLst/>
            </a:prstGeom>
            <a:solidFill>
              <a:srgbClr val="ffffff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LARGE FOR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333399"/>
                </a:solidFill>
                <a:latin typeface="Arial"/>
              </a:rPr>
              <a:t>Demo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: Boxer taking punch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fest when fast moving punch is strikes head over long period of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rot="1398600">
            <a:off x="1553760" y="3446280"/>
            <a:ext cx="885960" cy="996840"/>
          </a:xfrm>
          <a:prstGeom prst="smileyFace">
            <a:avLst>
              <a:gd name="adj" fmla="val 9282"/>
            </a:avLst>
          </a:prstGeom>
          <a:solidFill>
            <a:srgbClr val="ff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422360" y="4533840"/>
            <a:ext cx="825480" cy="1650960"/>
          </a:xfrm>
          <a:custGeom>
            <a:avLst/>
            <a:gdLst>
              <a:gd name="textAreaLeft" fmla="*/ 39960 w 825480"/>
              <a:gd name="textAreaRight" fmla="*/ 785520 w 825480"/>
              <a:gd name="textAreaTop" fmla="*/ 39960 h 1650960"/>
              <a:gd name="textAreaBottom" fmla="*/ 1611000 h 1650960"/>
            </a:gdLst>
            <a:ahLst/>
            <a:rect l="textAreaLeft" t="textAreaTop" r="textAreaRight" b="textAreaBottom"/>
            <a:pathLst>
              <a:path w="21600" h="43191">
                <a:moveTo>
                  <a:pt x="3600" y="0"/>
                </a:moveTo>
                <a:arcTo wR="3600" hR="3600" stAng="16200000" swAng="-5400000"/>
                <a:lnTo>
                  <a:pt x="0" y="39591"/>
                </a:lnTo>
                <a:arcTo wR="3600" hR="3600" stAng="10800000" swAng="-5400000"/>
                <a:lnTo>
                  <a:pt x="18000" y="431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49160" y="3736800"/>
            <a:ext cx="762120" cy="216000"/>
          </a:xfrm>
          <a:custGeom>
            <a:avLst/>
            <a:gdLst>
              <a:gd name="textAreaLeft" fmla="*/ 0 w 762120"/>
              <a:gd name="textAreaRight" fmla="*/ 762480 w 76212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9900"/>
          </a:solidFill>
          <a:ln w="381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051920" y="2805120"/>
            <a:ext cx="184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force) x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5148360" y="2771640"/>
            <a:ext cx="3055320" cy="3418200"/>
            <a:chOff x="5148360" y="2771640"/>
            <a:chExt cx="3055320" cy="3418200"/>
          </a:xfrm>
        </p:grpSpPr>
        <p:sp>
          <p:nvSpPr>
            <p:cNvPr id="95" name=""/>
            <p:cNvSpPr/>
            <p:nvPr/>
          </p:nvSpPr>
          <p:spPr>
            <a:xfrm>
              <a:off x="5871960" y="3408480"/>
              <a:ext cx="812520" cy="1015920"/>
            </a:xfrm>
            <a:prstGeom prst="smileyFace">
              <a:avLst>
                <a:gd name="adj" fmla="val 9282"/>
              </a:avLst>
            </a:prstGeom>
            <a:solidFill>
              <a:srgbClr val="ffffcc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71960" y="4538520"/>
              <a:ext cx="825120" cy="1651320"/>
            </a:xfrm>
            <a:custGeom>
              <a:avLst/>
              <a:gdLst>
                <a:gd name="textAreaLeft" fmla="*/ 39960 w 825120"/>
                <a:gd name="textAreaRight" fmla="*/ 785160 w 825120"/>
                <a:gd name="textAreaTop" fmla="*/ 39960 h 1651320"/>
                <a:gd name="textAreaBottom" fmla="*/ 1611360 h 1651320"/>
              </a:gdLst>
              <a:ahLst/>
              <a:rect l="textAreaLeft" t="textAreaTop" r="textAreaRight" b="textAreaBottom"/>
              <a:pathLst>
                <a:path w="21600" h="43219">
                  <a:moveTo>
                    <a:pt x="3600" y="0"/>
                  </a:moveTo>
                  <a:arcTo wR="3600" hR="3600" stAng="16200000" swAng="-5400000"/>
                  <a:lnTo>
                    <a:pt x="0" y="39619"/>
                  </a:lnTo>
                  <a:arcTo wR="3600" hR="3600" stAng="10800000" swAng="-5400000"/>
                  <a:lnTo>
                    <a:pt x="18000" y="4321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cc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48360" y="3522600"/>
              <a:ext cx="761760" cy="216000"/>
            </a:xfrm>
            <a:custGeom>
              <a:avLst/>
              <a:gdLst>
                <a:gd name="textAreaLeft" fmla="*/ 0 w 761760"/>
                <a:gd name="textAreaRight" fmla="*/ 762120 w 761760"/>
                <a:gd name="textAreaTop" fmla="*/ 0 h 216000"/>
                <a:gd name="textAreaBottom" fmla="*/ 216360 h 21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cc9900"/>
            </a:solidFill>
            <a:ln w="381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79960" y="357984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251400" y="357192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006960" y="3213000"/>
              <a:ext cx="151920" cy="165240"/>
            </a:xfrm>
            <a:prstGeom prst="star5">
              <a:avLst/>
            </a:prstGeom>
            <a:solidFill>
              <a:srgbClr val="bbe0e3"/>
            </a:solidFill>
            <a:ln w="381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507000" y="3306600"/>
              <a:ext cx="151920" cy="165240"/>
            </a:xfrm>
            <a:prstGeom prst="star5">
              <a:avLst/>
            </a:prstGeom>
            <a:solidFill>
              <a:srgbClr val="bbe0e3"/>
            </a:solidFill>
            <a:ln w="381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083280" y="4102200"/>
              <a:ext cx="380520" cy="127080"/>
            </a:xfrm>
            <a:prstGeom prst="ellipse">
              <a:avLst/>
            </a:prstGeom>
            <a:solidFill>
              <a:srgbClr val="80808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086600" y="3390840"/>
              <a:ext cx="1117080" cy="355680"/>
            </a:xfrm>
            <a:prstGeom prst="wedgeRoundRectCallout">
              <a:avLst>
                <a:gd name="adj1" fmla="val -107384"/>
                <a:gd name="adj2" fmla="val 145087"/>
                <a:gd name="adj3" fmla="val 16667"/>
              </a:avLst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211880" y="3376440"/>
              <a:ext cx="79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uch!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259240" y="2771640"/>
              <a:ext cx="2050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FORCE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 x (time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" name=""/>
          <p:cNvSpPr/>
          <p:nvPr/>
        </p:nvSpPr>
        <p:spPr>
          <a:xfrm>
            <a:off x="6804000" y="4227480"/>
            <a:ext cx="2203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99"/>
                </a:solidFill>
                <a:latin typeface="Arial"/>
              </a:rPr>
              <a:t>Not safe if fist  hits rigid body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3002040" y="4299120"/>
            <a:ext cx="2468520" cy="202068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5151600" y="3516480"/>
            <a:ext cx="761760" cy="215640"/>
          </a:xfrm>
          <a:custGeom>
            <a:avLst/>
            <a:gdLst>
              <a:gd name="textAreaLeft" fmla="*/ 0 w 761760"/>
              <a:gd name="textAreaRight" fmla="*/ 762120 w 761760"/>
              <a:gd name="textAreaTop" fmla="*/ 0 h 215640"/>
              <a:gd name="textAreaBottom" fmla="*/ 216000 h 21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9900"/>
          </a:solidFill>
          <a:ln w="381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05-06Figure_FIG.jpg"/>
          <p:cNvPicPr/>
          <p:nvPr/>
        </p:nvPicPr>
        <p:blipFill>
          <a:blip r:embed="rId1"/>
          <a:srcRect l="0" t="0" r="0" b="10137"/>
          <a:stretch/>
        </p:blipFill>
        <p:spPr>
          <a:xfrm>
            <a:off x="3394080" y="3083040"/>
            <a:ext cx="5307120" cy="298584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heck Yourself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3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2 ton car, going 60 m.p.h. hits a 5 ton truck, going 20 m.p.h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orce of impact is greatest on which vehicle, the car or the truck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Force on each is equal (by Newton’s 3</a:t>
            </a:r>
            <a:r>
              <a:rPr b="0" lang="en-US" sz="2000" spc="-1" strike="noStrike" baseline="30000">
                <a:solidFill>
                  <a:srgbClr val="ff0000"/>
                </a:solidFill>
                <a:latin typeface="Arial"/>
              </a:rPr>
              <a:t>rd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Law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impulse is greatest on which vehicle, the car or the truck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Force equal &amp; time of contact equal,                                                                so impulse equ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nge of momentum greates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Equal for the two vehic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nge of velocity greates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For the car (less mas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iver injury greates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Depends on safety featur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utomobile Safet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41200" y="1422000"/>
            <a:ext cx="8686800" cy="7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ximizing the time of impac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on the driv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inimizes the force of impact. This principle used in design o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749160" y="2489040"/>
            <a:ext cx="1905120" cy="2988720"/>
            <a:chOff x="749160" y="2489040"/>
            <a:chExt cx="1905120" cy="2988720"/>
          </a:xfrm>
        </p:grpSpPr>
        <p:pic>
          <p:nvPicPr>
            <p:cNvPr id="115" name="" descr=""/>
            <p:cNvPicPr/>
            <p:nvPr/>
          </p:nvPicPr>
          <p:blipFill>
            <a:blip r:embed="rId1"/>
            <a:stretch/>
          </p:blipFill>
          <p:spPr>
            <a:xfrm>
              <a:off x="749160" y="2489040"/>
              <a:ext cx="1905120" cy="254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"/>
            <p:cNvSpPr/>
            <p:nvPr/>
          </p:nvSpPr>
          <p:spPr>
            <a:xfrm>
              <a:off x="964800" y="5018040"/>
              <a:ext cx="145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99"/>
                  </a:solidFill>
                  <a:latin typeface="Arial"/>
                </a:rPr>
                <a:t>Seatbel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2752560" y="2635200"/>
            <a:ext cx="3333960" cy="2834640"/>
            <a:chOff x="2752560" y="2635200"/>
            <a:chExt cx="3333960" cy="2834640"/>
          </a:xfrm>
        </p:grpSpPr>
        <p:pic>
          <p:nvPicPr>
            <p:cNvPr id="118" name="" descr="Diagram of airbag inflation"/>
            <p:cNvPicPr/>
            <p:nvPr/>
          </p:nvPicPr>
          <p:blipFill>
            <a:blip r:embed="rId2"/>
            <a:stretch/>
          </p:blipFill>
          <p:spPr>
            <a:xfrm>
              <a:off x="2752560" y="2635200"/>
              <a:ext cx="3333960" cy="240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"/>
            <p:cNvSpPr/>
            <p:nvPr/>
          </p:nvSpPr>
          <p:spPr>
            <a:xfrm>
              <a:off x="3814200" y="5010120"/>
              <a:ext cx="1331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99"/>
                  </a:solidFill>
                  <a:latin typeface="Arial"/>
                </a:rPr>
                <a:t>Air Bag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6276960" y="2541600"/>
            <a:ext cx="2503440" cy="3273480"/>
            <a:chOff x="6276960" y="2541600"/>
            <a:chExt cx="2503440" cy="3273480"/>
          </a:xfrm>
        </p:grpSpPr>
        <p:pic>
          <p:nvPicPr>
            <p:cNvPr id="121" name="" descr=""/>
            <p:cNvPicPr/>
            <p:nvPr/>
          </p:nvPicPr>
          <p:blipFill>
            <a:blip r:embed="rId3"/>
            <a:stretch/>
          </p:blipFill>
          <p:spPr>
            <a:xfrm>
              <a:off x="6276960" y="2541600"/>
              <a:ext cx="2503440" cy="240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"/>
            <p:cNvSpPr/>
            <p:nvPr/>
          </p:nvSpPr>
          <p:spPr>
            <a:xfrm>
              <a:off x="6906600" y="4989600"/>
              <a:ext cx="1331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99"/>
                  </a:solidFill>
                  <a:latin typeface="Arial"/>
                </a:rPr>
                <a:t>Crump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99"/>
                  </a:solidFill>
                  <a:latin typeface="Arial"/>
                </a:rPr>
                <a:t>Zon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aking impulse work for you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41200" y="1422000"/>
            <a:ext cx="8686800" cy="7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1000"/>
          </a:bodyPr>
          <a:p>
            <a:pPr marL="72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: When you want to give something a large momentum, and you can only apply a limited amount of force, what can you d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2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: Apply the force over a long period of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2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2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doing this you give it a larger impulse and therefore a larger change in momentu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2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2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) Cannons  and rifles have a long barr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2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2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) In sports where you throw or hit things athletes are coached to “follow through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2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2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) blow dar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3346560" y="4460760"/>
            <a:ext cx="2873160" cy="19749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7162920" y="2994120"/>
            <a:ext cx="1423800" cy="9856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5440320" y="3013200"/>
            <a:ext cx="1430280" cy="95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5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500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500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500"/>
                                        <p:tgtEl>
                                          <p:spTgt spid="1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onservation of Momentum and Collisions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ection 6-2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244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two objects collide, impulse is equal and opposite for the two objec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612800" y="3695760"/>
            <a:ext cx="533520" cy="533520"/>
          </a:xfrm>
          <a:prstGeom prst="ellipse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163600" y="3560760"/>
            <a:ext cx="800280" cy="774720"/>
          </a:xfrm>
          <a:prstGeom prst="ellipse">
            <a:avLst/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57400" y="3759120"/>
            <a:ext cx="190440" cy="42084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944640" y="4614840"/>
            <a:ext cx="533160" cy="533520"/>
          </a:xfrm>
          <a:prstGeom prst="ellipse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867040" y="4492800"/>
            <a:ext cx="799920" cy="774360"/>
          </a:xfrm>
          <a:prstGeom prst="ellipse">
            <a:avLst/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1452240" y="46404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1584000" y="4822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1596600" y="49626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1495080" y="50515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2562120" y="4708080"/>
            <a:ext cx="2746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2529000" y="4839840"/>
            <a:ext cx="2746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2490840" y="5005440"/>
            <a:ext cx="2746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2630520" y="5169960"/>
            <a:ext cx="2746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2643120" y="4548240"/>
            <a:ext cx="2746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363680" y="2811600"/>
            <a:ext cx="533520" cy="533160"/>
          </a:xfrm>
          <a:prstGeom prst="ellipse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98760" y="2676600"/>
            <a:ext cx="799920" cy="774720"/>
          </a:xfrm>
          <a:prstGeom prst="ellipse">
            <a:avLst/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906480" y="28623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822240" y="30448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835200" y="31845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949320" y="3273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298680" y="28796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354480" y="30114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417840" y="31766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252960" y="3341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65560" y="2719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924080" y="2719440"/>
            <a:ext cx="259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fore colli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599800" y="3664080"/>
            <a:ext cx="124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073480" y="4621320"/>
            <a:ext cx="229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colli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438280" y="3949560"/>
            <a:ext cx="12193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677520" y="3941640"/>
            <a:ext cx="12193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008160" y="3627360"/>
            <a:ext cx="85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IMPUL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26840" y="3632040"/>
            <a:ext cx="85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IMPUL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6560" y="5502240"/>
            <a:ext cx="839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object has equal and opposite change in momentu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onservation of Momentum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nce change of momentum in a collision is equal and opposite, the momentum gained by one object is the amount lost by the othe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543600" y="3214800"/>
            <a:ext cx="3884760" cy="1849320"/>
            <a:chOff x="543600" y="3214800"/>
            <a:chExt cx="3884760" cy="1849320"/>
          </a:xfrm>
        </p:grpSpPr>
        <p:sp>
          <p:nvSpPr>
            <p:cNvPr id="166" name=""/>
            <p:cNvSpPr/>
            <p:nvPr/>
          </p:nvSpPr>
          <p:spPr>
            <a:xfrm>
              <a:off x="543600" y="3222720"/>
              <a:ext cx="1733760" cy="8240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omentu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Arial"/>
                </a:rPr>
                <a:t>Object 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Before Collis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694600" y="3214800"/>
              <a:ext cx="1733760" cy="8240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omentu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6600"/>
                  </a:solidFill>
                  <a:latin typeface="Arial"/>
                </a:rPr>
                <a:t>Object 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Before Collis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322000" y="3427560"/>
              <a:ext cx="31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503360" y="4424400"/>
              <a:ext cx="533520" cy="533520"/>
            </a:xfrm>
            <a:prstGeom prst="ellips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905200" y="4289400"/>
              <a:ext cx="799920" cy="774720"/>
            </a:xfrm>
            <a:prstGeom prst="ellipse">
              <a:avLst/>
            </a:prstGeom>
            <a:solidFill>
              <a:srgbClr val="99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1046160" y="44751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961920" y="4657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>
              <a:off x="974880" y="4797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>
              <a:off x="1089000" y="4886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705120" y="44928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760920" y="4624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24280" y="4789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659040" y="4954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672000" y="43322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616400" y="451152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44960" y="447840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4612680" y="3206880"/>
            <a:ext cx="4066560" cy="1831680"/>
            <a:chOff x="4612680" y="3206880"/>
            <a:chExt cx="4066560" cy="1831680"/>
          </a:xfrm>
        </p:grpSpPr>
        <p:sp>
          <p:nvSpPr>
            <p:cNvPr id="183" name=""/>
            <p:cNvSpPr/>
            <p:nvPr/>
          </p:nvSpPr>
          <p:spPr>
            <a:xfrm>
              <a:off x="5092200" y="3214800"/>
              <a:ext cx="1564560" cy="8240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omentu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Arial"/>
                </a:rPr>
                <a:t>Object 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After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Collis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14680" y="3206880"/>
              <a:ext cx="1564560" cy="8240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omentu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6600"/>
                  </a:solidFill>
                  <a:latin typeface="Arial"/>
                </a:rPr>
                <a:t>Object 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After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Collis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612680" y="3470400"/>
              <a:ext cx="31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700320" y="3449520"/>
              <a:ext cx="31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54800" y="4386240"/>
              <a:ext cx="533160" cy="533520"/>
            </a:xfrm>
            <a:prstGeom prst="ellips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477200" y="4264200"/>
              <a:ext cx="799920" cy="774360"/>
            </a:xfrm>
            <a:prstGeom prst="ellipse">
              <a:avLst/>
            </a:prstGeom>
            <a:solidFill>
              <a:srgbClr val="99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flipH="1">
              <a:off x="6062400" y="441180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flipH="1">
              <a:off x="6194160" y="459432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flipH="1">
              <a:off x="6206760" y="473400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>
              <a:off x="6105240" y="482292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7172280" y="4479480"/>
              <a:ext cx="2746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V="1">
              <a:off x="7139160" y="4611240"/>
              <a:ext cx="2743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flipV="1">
              <a:off x="7101000" y="4776840"/>
              <a:ext cx="2746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flipV="1">
              <a:off x="7240680" y="4941360"/>
              <a:ext cx="2746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flipV="1">
              <a:off x="7253280" y="4319640"/>
              <a:ext cx="2746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659560" y="445284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721640" y="445788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0" name=""/>
          <p:cNvSpPr/>
          <p:nvPr/>
        </p:nvSpPr>
        <p:spPr>
          <a:xfrm>
            <a:off x="657360" y="5281560"/>
            <a:ext cx="7816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Actual amount of momentum exchanged depends on the details of the collision, such as whether or not collision is elasti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333399"/>
                </a:solidFill>
                <a:latin typeface="Arial"/>
              </a:rPr>
              <a:t>Demo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: Elastic Collis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396800"/>
            <a:ext cx="8229600" cy="62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cts of 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equal ma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xchange momentum on elastic collisions. In rare cases, they also exchange all their KE as we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" descr="06-13Figure_FIG.jpg"/>
          <p:cNvPicPr/>
          <p:nvPr/>
        </p:nvPicPr>
        <p:blipFill>
          <a:blip r:embed="rId1"/>
          <a:srcRect l="0" t="0" r="0" b="5789"/>
          <a:stretch/>
        </p:blipFill>
        <p:spPr>
          <a:xfrm>
            <a:off x="719280" y="2452680"/>
            <a:ext cx="7270560" cy="378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333399"/>
                </a:solidFill>
                <a:latin typeface="Arial"/>
              </a:rPr>
              <a:t>Demo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el balls collide elastically, exchanging momentum on collis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4483080" y="2698920"/>
            <a:ext cx="4487760" cy="3365280"/>
          </a:xfrm>
          <a:prstGeom prst="rect">
            <a:avLst/>
          </a:prstGeom>
          <a:ln w="0">
            <a:noFill/>
          </a:ln>
        </p:spPr>
      </p:pic>
      <p:grpSp>
        <p:nvGrpSpPr>
          <p:cNvPr id="207" name=""/>
          <p:cNvGrpSpPr/>
          <p:nvPr/>
        </p:nvGrpSpPr>
        <p:grpSpPr>
          <a:xfrm>
            <a:off x="495360" y="3008160"/>
            <a:ext cx="3822480" cy="2238480"/>
            <a:chOff x="495360" y="3008160"/>
            <a:chExt cx="3822480" cy="2238480"/>
          </a:xfrm>
        </p:grpSpPr>
        <p:pic>
          <p:nvPicPr>
            <p:cNvPr id="208" name="" descr="06-13Figure_FIG.jpg"/>
            <p:cNvPicPr/>
            <p:nvPr/>
          </p:nvPicPr>
          <p:blipFill>
            <a:blip r:embed="rId2"/>
            <a:srcRect l="0" t="0" r="49834" b="53652"/>
            <a:stretch/>
          </p:blipFill>
          <p:spPr>
            <a:xfrm>
              <a:off x="495360" y="3008160"/>
              <a:ext cx="3822480" cy="223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584280" y="4152960"/>
              <a:ext cx="469800" cy="431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orce, Momentum, Energ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Newton’s Laws, we can understand motion just using forc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’s easier to understand motion by introducing concepts of momentum and energ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333399"/>
                </a:solidFill>
                <a:latin typeface="Arial"/>
              </a:rPr>
              <a:t>Demo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: Don’t Scratch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384200"/>
            <a:ext cx="8255160" cy="30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sink a billiard ball that is very close to the pocket without having the cue ball go in as well (“scratching”) strike the cue ball hard so it makes a crisp, elastic collis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5032440" y="3449520"/>
            <a:ext cx="3862440" cy="2775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441360" y="3516480"/>
            <a:ext cx="45910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 with demo, cue ball will stop after giving all its momentum to the other ball in the collis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3637080" y="4013280"/>
            <a:ext cx="1312920" cy="131760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1650960" y="3983040"/>
            <a:ext cx="1312920" cy="131760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333399"/>
                </a:solidFill>
                <a:latin typeface="Arial"/>
              </a:rPr>
              <a:t>Demo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5516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masses unequal, momentum change can be lar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906560" y="2323800"/>
            <a:ext cx="799920" cy="1612800"/>
            <a:chOff x="1906560" y="2323800"/>
            <a:chExt cx="799920" cy="1612800"/>
          </a:xfrm>
        </p:grpSpPr>
        <p:sp>
          <p:nvSpPr>
            <p:cNvPr id="219" name=""/>
            <p:cNvSpPr/>
            <p:nvPr/>
          </p:nvSpPr>
          <p:spPr>
            <a:xfrm rot="5400000">
              <a:off x="1906200" y="3136320"/>
              <a:ext cx="800280" cy="7999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2630520" y="245016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2356560" y="232380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 flipV="1">
              <a:off x="2147040" y="234324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 flipV="1">
              <a:off x="2013480" y="251424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"/>
          <p:cNvSpPr/>
          <p:nvPr/>
        </p:nvSpPr>
        <p:spPr>
          <a:xfrm flipV="1">
            <a:off x="2038320" y="33397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2236680" y="32554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V="1">
            <a:off x="2484360" y="3160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2732040" y="3408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1798560" y="33890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939960" y="5308560"/>
            <a:ext cx="7416720" cy="152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3782880" y="2430000"/>
            <a:ext cx="933480" cy="3700800"/>
            <a:chOff x="3782880" y="2430000"/>
            <a:chExt cx="933480" cy="3700800"/>
          </a:xfrm>
        </p:grpSpPr>
        <p:sp>
          <p:nvSpPr>
            <p:cNvPr id="231" name=""/>
            <p:cNvSpPr/>
            <p:nvPr/>
          </p:nvSpPr>
          <p:spPr>
            <a:xfrm rot="5400000">
              <a:off x="3879360" y="3243240"/>
              <a:ext cx="800280" cy="800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 flipV="1">
              <a:off x="4603680" y="255708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 flipV="1">
              <a:off x="4329000" y="243000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 flipV="1">
              <a:off x="4119480" y="244908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 flipV="1">
              <a:off x="3986280" y="262044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024440" y="526572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221000" y="534996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468680" y="544500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716360" y="519732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782880" y="521640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203720" y="3848040"/>
              <a:ext cx="190440" cy="420840"/>
            </a:xfrm>
            <a:prstGeom prst="irregularSeal1">
              <a:avLst/>
            </a:prstGeom>
            <a:solidFill>
              <a:srgbClr val="cc0099">
                <a:alpha val="40000"/>
              </a:srgbClr>
            </a:solidFill>
            <a:ln w="93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2" name=""/>
          <p:cNvGrpSpPr/>
          <p:nvPr/>
        </p:nvGrpSpPr>
        <p:grpSpPr>
          <a:xfrm>
            <a:off x="5676840" y="339480"/>
            <a:ext cx="1312920" cy="5758200"/>
            <a:chOff x="5676840" y="339480"/>
            <a:chExt cx="1312920" cy="5758200"/>
          </a:xfrm>
        </p:grpSpPr>
        <p:pic>
          <p:nvPicPr>
            <p:cNvPr id="243" name="" descr=""/>
            <p:cNvPicPr/>
            <p:nvPr/>
          </p:nvPicPr>
          <p:blipFill>
            <a:blip r:embed="rId3"/>
            <a:stretch/>
          </p:blipFill>
          <p:spPr>
            <a:xfrm>
              <a:off x="5676840" y="3979800"/>
              <a:ext cx="1312920" cy="131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4" name=""/>
            <p:cNvSpPr/>
            <p:nvPr/>
          </p:nvSpPr>
          <p:spPr>
            <a:xfrm>
              <a:off x="6051600" y="523224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248520" y="531648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495840" y="541188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743520" y="516420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810040" y="518328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9" name=""/>
            <p:cNvGrpSpPr/>
            <p:nvPr/>
          </p:nvGrpSpPr>
          <p:grpSpPr>
            <a:xfrm>
              <a:off x="5932080" y="339480"/>
              <a:ext cx="800280" cy="3607200"/>
              <a:chOff x="5932080" y="339480"/>
              <a:chExt cx="800280" cy="3607200"/>
            </a:xfrm>
          </p:grpSpPr>
          <p:sp>
            <p:nvSpPr>
              <p:cNvPr id="250" name=""/>
              <p:cNvSpPr/>
              <p:nvPr/>
            </p:nvSpPr>
            <p:spPr>
              <a:xfrm flipV="1" rot="16200000">
                <a:off x="5932080" y="339120"/>
                <a:ext cx="800280" cy="800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flipH="1">
                <a:off x="6630480" y="1076400"/>
                <a:ext cx="1800" cy="274320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flipH="1">
                <a:off x="6357960" y="1203480"/>
                <a:ext cx="1440" cy="274320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flipH="1">
                <a:off x="6148440" y="1184400"/>
                <a:ext cx="1440" cy="274320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flipH="1">
                <a:off x="6014520" y="1013040"/>
                <a:ext cx="1800" cy="274320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5" name=""/>
          <p:cNvSpPr/>
          <p:nvPr/>
        </p:nvSpPr>
        <p:spPr>
          <a:xfrm>
            <a:off x="1078920" y="3033720"/>
            <a:ext cx="68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o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b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101960" y="4270320"/>
            <a:ext cx="59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Gol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b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640920" y="2563920"/>
            <a:ext cx="189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peed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ping-pong b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is 3x lar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Slingshot effect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333399"/>
                </a:solidFill>
                <a:latin typeface="Arial"/>
              </a:rPr>
              <a:t>Demo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:  Perfectly Inelastic Collis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965160" y="1600200"/>
            <a:ext cx="742968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jects stick together after collid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 is not conserved.  Energy is lost to sound and changing the shap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06-15Figure_FIG.jpg"/>
          <p:cNvPicPr/>
          <p:nvPr/>
        </p:nvPicPr>
        <p:blipFill>
          <a:blip r:embed="rId1"/>
          <a:stretch/>
        </p:blipFill>
        <p:spPr>
          <a:xfrm>
            <a:off x="612720" y="2573280"/>
            <a:ext cx="4032360" cy="279396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06-14Figure_FIG.jpg"/>
          <p:cNvPicPr/>
          <p:nvPr/>
        </p:nvPicPr>
        <p:blipFill>
          <a:blip r:embed="rId2"/>
          <a:srcRect l="0" t="0" r="0" b="4845"/>
          <a:stretch/>
        </p:blipFill>
        <p:spPr>
          <a:xfrm>
            <a:off x="4495680" y="2509920"/>
            <a:ext cx="4254480" cy="267804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/>
          <p:nvPr/>
        </p:nvSpPr>
        <p:spPr>
          <a:xfrm>
            <a:off x="5053320" y="27417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908680" y="36482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505560" y="45626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945480" y="27543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7000920" y="36482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534440" y="45752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06-14Figure_FIG.jpg"/>
          <p:cNvPicPr/>
          <p:nvPr/>
        </p:nvPicPr>
        <p:blipFill>
          <a:blip r:embed="rId3"/>
          <a:srcRect l="0" t="0" r="68362" b="93302"/>
          <a:stretch/>
        </p:blipFill>
        <p:spPr>
          <a:xfrm>
            <a:off x="690480" y="2438280"/>
            <a:ext cx="1346400" cy="18900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06-14Figure_FIG.jpg"/>
          <p:cNvPicPr/>
          <p:nvPr/>
        </p:nvPicPr>
        <p:blipFill>
          <a:blip r:embed="rId4"/>
          <a:srcRect l="47169" t="0" r="25371" b="92398"/>
          <a:stretch/>
        </p:blipFill>
        <p:spPr>
          <a:xfrm>
            <a:off x="1897200" y="4368960"/>
            <a:ext cx="1168200" cy="21420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06-14Figure_FIG.jpg"/>
          <p:cNvPicPr/>
          <p:nvPr/>
        </p:nvPicPr>
        <p:blipFill>
          <a:blip r:embed="rId5"/>
          <a:srcRect l="0" t="0" r="80904" b="91940"/>
          <a:stretch/>
        </p:blipFill>
        <p:spPr>
          <a:xfrm>
            <a:off x="3260880" y="2468520"/>
            <a:ext cx="812520" cy="22716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06-14Figure_FIG.jpg"/>
          <p:cNvPicPr/>
          <p:nvPr/>
        </p:nvPicPr>
        <p:blipFill>
          <a:blip r:embed="rId6"/>
          <a:srcRect l="68362" t="-435" r="16720" b="93302"/>
          <a:stretch/>
        </p:blipFill>
        <p:spPr>
          <a:xfrm>
            <a:off x="2943360" y="2455920"/>
            <a:ext cx="635040" cy="20160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/>
          <p:nvPr/>
        </p:nvSpPr>
        <p:spPr>
          <a:xfrm>
            <a:off x="4521240" y="2298600"/>
            <a:ext cx="0" cy="3289320"/>
          </a:xfrm>
          <a:prstGeom prst="line">
            <a:avLst/>
          </a:prstGeom>
          <a:ln w="7632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5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500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heck Yourself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(4 kg) fish swims at 3 m/s towards a small  (2 kg) fish at rest and swallows it for lunch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momentum before lunch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( 4 kg ) x ( 3 m/s ) + ( 2 kg ) x ( 0 m/s ) = 12  kg m/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momentum after lunch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By conservation of momentum, still 12 kg m/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locity of the large fish (with small fish inside)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( 6 kg) x (Velocity) = 12 kg m/s so the post-lunch velocity is 2 m/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" descr="06-17Figure_FIG.jpg"/>
          <p:cNvPicPr/>
          <p:nvPr/>
        </p:nvPicPr>
        <p:blipFill>
          <a:blip r:embed="rId1"/>
          <a:stretch/>
        </p:blipFill>
        <p:spPr>
          <a:xfrm>
            <a:off x="460440" y="3068640"/>
            <a:ext cx="8321760" cy="301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coil (explosion)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mentum conservation also explains reco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" descr="05-16Figure_FIG.jpg"/>
          <p:cNvPicPr/>
          <p:nvPr/>
        </p:nvPicPr>
        <p:blipFill>
          <a:blip r:embed="rId1"/>
          <a:stretch/>
        </p:blipFill>
        <p:spPr>
          <a:xfrm>
            <a:off x="1371600" y="2179800"/>
            <a:ext cx="6249960" cy="307008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/>
          <p:nvPr/>
        </p:nvSpPr>
        <p:spPr>
          <a:xfrm>
            <a:off x="1001880" y="2833560"/>
            <a:ext cx="240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(MASS)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x (velocit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060600" y="3076560"/>
            <a:ext cx="240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(mass) x (VELOCIT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325160" y="5357880"/>
            <a:ext cx="586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ecoil effect is like an inelastic collision in rever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omplicated Collis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lisions at an angle (not head-on) are more complicated. Learn by playing poo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" descr="Live Billiards screenshot"/>
          <p:cNvPicPr/>
          <p:nvPr/>
        </p:nvPicPr>
        <p:blipFill>
          <a:blip r:embed="rId1"/>
          <a:stretch/>
        </p:blipFill>
        <p:spPr>
          <a:xfrm>
            <a:off x="4668840" y="2865600"/>
            <a:ext cx="3984480" cy="319068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851040" y="3200400"/>
            <a:ext cx="685800" cy="685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2036880" y="2938320"/>
            <a:ext cx="685800" cy="6858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235240" y="3149640"/>
            <a:ext cx="330120" cy="3301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 flipH="1">
            <a:off x="558360" y="326376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 flipH="1">
            <a:off x="423720" y="3446640"/>
            <a:ext cx="39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 flipH="1">
            <a:off x="385560" y="362412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614520" y="38149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389240" y="4170240"/>
            <a:ext cx="685800" cy="685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028960" y="3908520"/>
            <a:ext cx="685800" cy="6858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2227320" y="4119480"/>
            <a:ext cx="330120" cy="3301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 flipH="1">
            <a:off x="1096560" y="423396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H="1">
            <a:off x="961920" y="4416480"/>
            <a:ext cx="39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H="1">
            <a:off x="923760" y="459432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 flipH="1">
            <a:off x="1152000" y="478476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955880" y="4178160"/>
            <a:ext cx="190440" cy="420840"/>
          </a:xfrm>
          <a:prstGeom prst="irregularSeal1">
            <a:avLst/>
          </a:prstGeom>
          <a:solidFill>
            <a:srgbClr val="cc0099">
              <a:alpha val="40000"/>
            </a:srgbClr>
          </a:solidFill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209760" y="4581360"/>
            <a:ext cx="685800" cy="6858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3408480" y="4792680"/>
            <a:ext cx="330120" cy="3301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1809000" y="5327280"/>
            <a:ext cx="1226880" cy="931320"/>
            <a:chOff x="1809000" y="5327280"/>
            <a:chExt cx="1226880" cy="931320"/>
          </a:xfrm>
        </p:grpSpPr>
        <p:sp>
          <p:nvSpPr>
            <p:cNvPr id="303" name=""/>
            <p:cNvSpPr/>
            <p:nvPr/>
          </p:nvSpPr>
          <p:spPr>
            <a:xfrm rot="1257600">
              <a:off x="2250000" y="5472720"/>
              <a:ext cx="685800" cy="685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 flipV="1">
              <a:off x="2099520" y="5327280"/>
              <a:ext cx="284760" cy="10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 flipV="1">
              <a:off x="1908360" y="5449680"/>
              <a:ext cx="367920" cy="140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 flipV="1">
              <a:off x="1809000" y="5601960"/>
              <a:ext cx="403200" cy="15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 flipH="1" flipV="1">
              <a:off x="1954800" y="5861880"/>
              <a:ext cx="284400" cy="10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8" name=""/>
          <p:cNvSpPr/>
          <p:nvPr/>
        </p:nvSpPr>
        <p:spPr>
          <a:xfrm flipH="1">
            <a:off x="2958840" y="4788000"/>
            <a:ext cx="215640" cy="8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2950920" y="4983120"/>
            <a:ext cx="215640" cy="8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2989080" y="5135400"/>
            <a:ext cx="215640" cy="8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3133800" y="5254560"/>
            <a:ext cx="216000" cy="8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omentum</a:t>
            </a:r>
            <a:br>
              <a:rPr sz="4400"/>
            </a:b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Section 6-1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346040"/>
            <a:ext cx="554688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Momentum of an object is can be thought of as “inertia in motion.”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(Momentum) = (Mass) X (Velocity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= m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v 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xamples of objects with large momentums are supertanker (large mass) and bullet (large velocity)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ren’t momentum and inertia the same thing?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e difference is if an object is at rest, it has no momentum, but it does have inertia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Momentum is a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vector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quantity.  Direction matters!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Crude Oil Tanker"/>
          <p:cNvPicPr/>
          <p:nvPr/>
        </p:nvPicPr>
        <p:blipFill>
          <a:blip r:embed="rId1"/>
          <a:stretch/>
        </p:blipFill>
        <p:spPr>
          <a:xfrm>
            <a:off x="6245280" y="1508040"/>
            <a:ext cx="2625840" cy="22370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6248520" y="3868560"/>
            <a:ext cx="2589120" cy="21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omentum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Units!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2074680"/>
            <a:ext cx="7696080" cy="40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nce momentum is found by multiplying mass and velocity, the units are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g m/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re’s no fancy name for these units.  Just say kilogram meters per secon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05-06Figure_FIG.jpg"/>
          <p:cNvPicPr/>
          <p:nvPr/>
        </p:nvPicPr>
        <p:blipFill>
          <a:blip r:embed="rId1"/>
          <a:srcRect l="0" t="0" r="0" b="10137"/>
          <a:stretch/>
        </p:blipFill>
        <p:spPr>
          <a:xfrm>
            <a:off x="3483000" y="3083040"/>
            <a:ext cx="5218200" cy="298584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3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2 ton car, going 60 m.p.h. hits a 5 ton truck, going 20 m.p.h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ich vehicle, the car or the truck, has greater momentu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The car because (2)x(60) = 120 and (5)x(20) = 10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would the car’s speed have to be for the momentums to match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Fifty m.p.h. since (2)x(50) = (5)X(20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n’t you forgetting something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The direction of veloc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does that matte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Rear-end crash n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same as a head-on crash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More about this w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we do coll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omentum and Impulse</a:t>
            </a:r>
            <a:br>
              <a:rPr sz="4400"/>
            </a:b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ection 6-2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Chapter 5, we learned to change the velocity of an object is to change its K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n object’s KE is changed, work was done on the obje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 is F x 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fore, changing the motion of an object can be described by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 har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push is 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 fa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t’s pushed f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other way we can describe a change in motion is by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 har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push is and by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 much 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push is applied f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call F x t a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mpu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omentum and Impulse</a:t>
            </a:r>
            <a:br>
              <a:rPr sz="4400"/>
            </a:b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ection 6-1 continued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stop an object with a large momentum requires eith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 force (stopping the object quickly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all force applied for a long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ice that changing an object’s momentum depends on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or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ime interv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mpuls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impulse acting on an object a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mpulse) = (Force on object) X (Time interv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 = F  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mpulse &amp; Momentum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impulse causes a change in moment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= ∆p = F 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t’s rearrange this formul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 t = ∆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 t = ∆m 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 t = m ∆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 t = m (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 = m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 = m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This relation comes from Newton’s 2</a:t>
            </a:r>
            <a:r>
              <a:rPr b="0" lang="en-US" sz="2400" spc="-1" strike="noStrike" baseline="30000">
                <a:solidFill>
                  <a:srgbClr val="006600"/>
                </a:solidFill>
                <a:latin typeface="Arial"/>
              </a:rPr>
              <a:t>nd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 la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470480" y="5351400"/>
            <a:ext cx="1066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12T01:48:54Z</dcterms:created>
  <dc:creator>Garcia</dc:creator>
  <dc:description/>
  <dc:language>en-US</dc:language>
  <cp:lastModifiedBy>PA Department of Education</cp:lastModifiedBy>
  <dcterms:modified xsi:type="dcterms:W3CDTF">2008-02-04T18:27:45Z</dcterms:modified>
  <cp:revision>208</cp:revision>
  <dc:subject/>
  <dc:title>Slide 1</dc:title>
</cp:coreProperties>
</file>